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44F9-3A44-48A2-9819-1C9926A9A1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AB6F-6058-4795-B441-848EE3212E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F229-659E-4C89-B146-90D45583A9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8511-4947-434C-8496-71C4F1F643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0E1C-C3BD-413B-A41B-F87F8BBDC7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0BBE-6B79-4805-B656-0A3399B0EB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23C0-EF25-41CF-BFF8-2EA4F6F9E9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6D6E-AA62-4C9A-AC2B-57AD7AD07C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C8CC-53F9-4BF3-B47A-CA9C9BDAED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DBD0-E986-4E7D-8AE7-1CAC3D0457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DF12-3660-44EC-B3AE-509B6326C4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FB68-AB65-4CC2-A75F-4529EAF474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2E922-A101-4E25-9516-599D94C6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EC84F-BA96-4EF7-A94C-D0C3B3DA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EF7DD-2896-447C-BBB5-1F8067EE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E1C5C-FBED-4CF6-BD05-A97854F6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4051-4975-4C63-BB41-935F56B6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0983-DAF8-47B0-90A2-6A1A60E5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E079-E1A2-49F8-8CFA-E41C8587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F3EC-E6FB-4DE8-A4B5-5E634B84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A0F5-AE23-4A6B-A912-661266B8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957E-84F1-4E33-A174-7CF9DE56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D565-3468-4570-BBC6-A1A65A83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615C4-062A-4E97-8D1B-D2388A3C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9B75-F8DC-45A2-909F-AA3DBD36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C9B3-B0EA-4A68-B6AE-3F0D2863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BC2E-A7DE-4A37-9493-4E67685F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8F20-F706-42A6-B9A6-8919DFD1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EE51-E727-4EFA-9447-1E2E56CE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377F7-961A-4401-9197-AD04FE13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285FF-BE74-4B29-8D0F-A00D4B6D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F5B38-8C60-4A9D-B766-12C0C30A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81DBF-CB21-4C71-9FC1-EFE39C1C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90B1D-C564-415E-879A-BBE3C36F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458E9-D40E-46F1-A419-07808E2D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57A57-68AC-43D3-8EF6-0B676E39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7EEC-52F8-4F9A-8010-8431329E33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40DE-2C2D-4B3E-B36B-F59D6D79E7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71640" y="1828800"/>
            <a:ext cx="6220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Машиностроительное черчение. 9 класс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ечения и разрезы. Виды и обозначение сечени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63440" y="1928880"/>
            <a:ext cx="834732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я для практической работ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321"/>
          <p:cNvPicPr/>
          <p:nvPr/>
        </p:nvPicPr>
        <p:blipFill>
          <a:blip r:embed="rId1"/>
          <a:stretch/>
        </p:blipFill>
        <p:spPr>
          <a:xfrm rot="21445200">
            <a:off x="4363920" y="1773360"/>
            <a:ext cx="4780080" cy="4751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123"/>
          <p:cNvPicPr/>
          <p:nvPr/>
        </p:nvPicPr>
        <p:blipFill>
          <a:blip r:embed="rId2"/>
          <a:stretch/>
        </p:blipFill>
        <p:spPr>
          <a:xfrm>
            <a:off x="179280" y="1557360"/>
            <a:ext cx="3988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хнологические особенности в машиностроительных детал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1"/>
          <p:cNvPicPr/>
          <p:nvPr/>
        </p:nvPicPr>
        <p:blipFill>
          <a:blip r:embed="rId1"/>
          <a:stretch/>
        </p:blipFill>
        <p:spPr>
          <a:xfrm>
            <a:off x="539640" y="2205000"/>
            <a:ext cx="2409840" cy="1619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2"/>
          <p:cNvPicPr/>
          <p:nvPr/>
        </p:nvPicPr>
        <p:blipFill>
          <a:blip r:embed="rId2"/>
          <a:stretch/>
        </p:blipFill>
        <p:spPr>
          <a:xfrm>
            <a:off x="4067280" y="2133720"/>
            <a:ext cx="1447560" cy="1923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3"/>
          <p:cNvPicPr/>
          <p:nvPr/>
        </p:nvPicPr>
        <p:blipFill>
          <a:blip r:embed="rId3"/>
          <a:stretch/>
        </p:blipFill>
        <p:spPr>
          <a:xfrm>
            <a:off x="6732720" y="2276640"/>
            <a:ext cx="1866600" cy="161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5"/>
          <p:cNvPicPr/>
          <p:nvPr/>
        </p:nvPicPr>
        <p:blipFill>
          <a:blip r:embed="rId4"/>
          <a:stretch/>
        </p:blipFill>
        <p:spPr>
          <a:xfrm>
            <a:off x="539640" y="4581360"/>
            <a:ext cx="1714680" cy="176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7"/>
          <p:cNvPicPr/>
          <p:nvPr/>
        </p:nvPicPr>
        <p:blipFill>
          <a:blip r:embed="rId5"/>
          <a:stretch/>
        </p:blipFill>
        <p:spPr>
          <a:xfrm>
            <a:off x="3348000" y="4581360"/>
            <a:ext cx="1943280" cy="1762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9"/>
          <p:cNvPicPr/>
          <p:nvPr/>
        </p:nvPicPr>
        <p:blipFill>
          <a:blip r:embed="rId6"/>
          <a:stretch/>
        </p:blipFill>
        <p:spPr>
          <a:xfrm>
            <a:off x="6084720" y="4797360"/>
            <a:ext cx="1933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33333333333333333333333.JPG"/>
          <p:cNvPicPr/>
          <p:nvPr/>
        </p:nvPicPr>
        <p:blipFill>
          <a:blip r:embed="rId3"/>
          <a:stretch/>
        </p:blipFill>
        <p:spPr>
          <a:xfrm rot="120000">
            <a:off x="90000" y="845640"/>
            <a:ext cx="889164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 получения се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812000" y="4221000"/>
            <a:ext cx="1076400" cy="1257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562200" cy="2552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450828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4859280" y="4292640"/>
            <a:ext cx="28861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сеч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несенное                     Налож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Безымянный"/>
          <p:cNvPicPr/>
          <p:nvPr/>
        </p:nvPicPr>
        <p:blipFill>
          <a:blip r:embed="rId1"/>
          <a:stretch/>
        </p:blipFill>
        <p:spPr>
          <a:xfrm>
            <a:off x="179280" y="220500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1"/>
          <p:cNvPicPr/>
          <p:nvPr/>
        </p:nvPicPr>
        <p:blipFill>
          <a:blip r:embed="rId2"/>
          <a:stretch/>
        </p:blipFill>
        <p:spPr>
          <a:xfrm>
            <a:off x="4788000" y="2205000"/>
            <a:ext cx="367164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3422160" y="4076640"/>
            <a:ext cx="19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зры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2"/>
          <p:cNvPicPr/>
          <p:nvPr/>
        </p:nvPicPr>
        <p:blipFill>
          <a:blip r:embed="rId3"/>
          <a:stretch/>
        </p:blipFill>
        <p:spPr>
          <a:xfrm>
            <a:off x="1979640" y="4797360"/>
            <a:ext cx="46800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несенное с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выполненная на свободном поле чертеж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расположенная на продолжении следа секуще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3"/>
          <p:cNvPicPr/>
          <p:nvPr/>
        </p:nvPicPr>
        <p:blipFill>
          <a:blip r:embed="rId1"/>
          <a:stretch/>
        </p:blipFill>
        <p:spPr>
          <a:xfrm>
            <a:off x="755640" y="4149720"/>
            <a:ext cx="3038400" cy="2114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4"/>
          <p:cNvPicPr/>
          <p:nvPr/>
        </p:nvPicPr>
        <p:blipFill>
          <a:blip r:embed="rId2"/>
          <a:stretch/>
        </p:blipFill>
        <p:spPr>
          <a:xfrm>
            <a:off x="5003640" y="4076640"/>
            <a:ext cx="23767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ложенное с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располагается непосредственно на виде (изображение фигуры сечения как бы накладывается на ви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значение се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несенное сечение: толщина обводки фигуры сечения – сплошная основн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омкнутая линия со стрелками направления взгля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риховка под углом 45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оженное сечение:толщина обводки – сплошная тонк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омкнутая линия со стрелками направления взгля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5636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8:11:52Z</dcterms:created>
  <dc:creator>Гость</dc:creator>
  <dc:description/>
  <dc:language>en-US</dc:language>
  <cp:lastModifiedBy>Йа</cp:lastModifiedBy>
  <dcterms:modified xsi:type="dcterms:W3CDTF">2011-09-14T23:45:20Z</dcterms:modified>
  <cp:revision>7</cp:revision>
  <dc:subject/>
  <dc:title>Машиностроительное черчение</dc:title>
</cp:coreProperties>
</file>